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applause.wav" ContentType="audio/x-wav"/>
  <Override PartName="/ppt/media/image10.png" ContentType="image/png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7FD-713C-4EA3-826E-42A6E14E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52E-2086-4DE1-8F8B-B545FA78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48A-4018-42FB-8A0A-7C25EAE6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898-AFC8-4ABA-9C04-0FDD30E3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24B3-5C67-4DC2-BB45-A12E2CDE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D7D1-4063-4456-BCBB-2E8FF343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D045-2F52-4DB7-8886-7997E3BD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8B5F-9F40-4A27-93A4-1E54C76F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37CB-D3FE-40A5-AFE7-34F4ED82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584F-1E58-420F-ABA2-3CC1EE5B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F7F2-674B-4758-9F8E-5C99937B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2D2-6732-4427-896A-6B5CC611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7FE7-3258-4459-AB3C-1211D044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A3C2-903A-478A-A808-1671B7FD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211D-2F5D-4136-9C85-9BCCCBAA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92C9-D8A3-4C1F-B425-27193269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479E-34A6-420B-8A2D-89D9B99A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0095-57BB-4FAB-B389-349F7947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C2118-2AB7-4E74-885B-5F2A1CAB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EC2CA-6DE4-4638-A1E8-8F8E8029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8F365-886B-4446-93E1-ED48A8A6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836B0-81DB-4600-91D5-6EAE0599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211-C347-4D5B-B66C-401CD49B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9928D-C93E-4A2F-B903-6A8A4C6A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1EA1C-5D56-49E3-9BBD-A5BA1628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576E7-0912-4771-898E-665D99DF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AD58D-39E8-4448-82A0-9F4856CE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4E6AE-CBE0-4236-9157-FA75AB56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5D758-02A0-47C8-B580-57A97896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7E8C-58F3-4024-BF98-FB447D19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23B41-4160-4564-AA06-9DDEC89C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3A784-411B-4024-9A3D-D78FC7F3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62F25-0A9C-43BE-9961-E17B2C10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814-291C-47A0-9C78-F0F62B3B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5EA0F-5940-409B-85C0-8ED3C0D5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0EAB8-BE3D-433F-BB27-F3DE8D3B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64E6F-72C7-476F-AADB-C9BF4B59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1AFE9-2975-494B-B631-DCC0CA1D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29B6E-B2D1-4410-BD7C-1D50575C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2F13-BAB1-424E-8620-5988E2CC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7E753-8D99-4B3D-AA05-0AA98D75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DB270-00D8-4A57-A681-E1AADB0B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8AA9C-B024-4043-9D33-5E9BD12F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5CFE9-D2CE-4626-92FD-6947CF88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F33-2359-49D4-BCB1-B26FC36A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93A2E-9256-4C72-BD07-4E87AF94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A00D0-3200-4A3D-963F-FD65FB1C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EE42D-BD59-458E-A672-EADD7E2E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F996F-5B1B-4DEB-9191-55804796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3073B-4EE6-40E0-BB1F-6952B898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A2C05-FB4E-4903-9F5C-ECC623B8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EB527-6F28-4138-B0E3-517A9ED4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22A13-8821-4EF9-ACBA-367DA9FF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AB3CA-B79F-459F-96A4-17AA749A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C9F00-9CC4-431B-B609-535BBAE0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6D3-7586-48A4-9F4A-BEA413C2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1C4EC-26EF-42E0-8552-55F740BC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42C0D-B167-4792-8CAC-0CBD6F2A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A6F15-631F-4BA5-992F-BFD46F5F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5BC53-9F2F-4391-9BC6-4C7A6076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0EBC6-C4D6-4A55-A56F-AF0864E6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30AC2-956E-4264-B453-2CF78B9D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CF115-FCF3-4C3E-9F61-050E83EE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F5885-B9B9-4D9D-97C0-D0794742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8F314-962D-4B83-B2D6-78B5821E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0D8DE-69F9-4B5D-BA43-D3F5A82F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568-692C-46A3-AECA-21034492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8D73A-1243-4495-80CF-3A97E92A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EA189-82AB-432D-9468-F1386813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EE251-189F-4AA1-BCE9-E7D2655A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725-9B09-40C4-B522-686478EE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A9E-0047-4B28-85AD-34717D47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F756-3599-49CA-A1E4-71BF023BD88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9B91-DB3C-44BF-830C-9FABF4EE05F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3070-D00D-4187-9EBE-CF091DB7628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3953-97DE-4737-AA24-A406E731E0D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B318-8C8A-4EDB-90C0-09E4223DFDC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8371-5750-4F6C-883B-44EB0F38CB8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audio" Target="../media/applause.wav"/><Relationship Id="rId14" Type="http://schemas.openxmlformats.org/officeDocument/2006/relationships/audio" Target="../media/applause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98440" y="1079640"/>
            <a:ext cx="885204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99760" y="-572040"/>
            <a:ext cx="648036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Нам нечего бояться, кроме самого страха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Рисунок 4" descr="F:\Рузвельт\roosevelt_1.jpg"/>
          <p:cNvPicPr/>
          <p:nvPr/>
        </p:nvPicPr>
        <p:blipFill>
          <a:blip r:embed="rId2"/>
          <a:stretch/>
        </p:blipFill>
        <p:spPr>
          <a:xfrm>
            <a:off x="1407960" y="2693880"/>
            <a:ext cx="2219400" cy="2901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8"/>
          <p:cNvSpPr/>
          <p:nvPr/>
        </p:nvSpPr>
        <p:spPr>
          <a:xfrm>
            <a:off x="4000680" y="5214960"/>
            <a:ext cx="471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 : Зубенко Юлия 11 «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 : Биккулова Н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6" descr="H:\Рузвельт\0_3a90_9f0eec83_XL.jpeg"/>
          <p:cNvPicPr/>
          <p:nvPr/>
        </p:nvPicPr>
        <p:blipFill>
          <a:blip r:embed="rId3"/>
          <a:stretch/>
        </p:blipFill>
        <p:spPr>
          <a:xfrm>
            <a:off x="4406760" y="2693880"/>
            <a:ext cx="401796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500" autoRev="1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81,-52)"/>
                                      </p:to>
                                    </p:set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81,-52)"/>
                                      </p:to>
                                    </p:set>
                                    <p:set>
                                      <p:cBhvr>
                                        <p:cTn id="33" dur="500" autoRev="1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81,-52)"/>
                                      </p:to>
                                    </p:se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81,-52)"/>
                                      </p:to>
                                    </p:set>
                                    <p:set>
                                      <p:cBhvr>
                                        <p:cTn id="37" dur="500" autoRev="1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8186760" cy="221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Основные даты жизни.</a:t>
            </a:r>
            <a:br>
              <a:rPr sz="4000"/>
            </a:b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Impact"/>
              </a:rPr>
              <a:t>Детские  и  юношеские   годы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28760" y="185724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0 января 1882 г.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лся в состоятельной семье: отец — Джеймс Рузвельт, мать — Сара Дела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ские годы провел в Гайд-пар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896 г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родители отдали сына в аристократическую частную школу в Гротоне, близ Босто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00 — 1903 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- Рузвельт — студент Гарвардского университе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03 г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аканчивает Гарвард и получает диплом бакалавра. На следующий год — поступление в юридическую школу Колумбийского университ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07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r>
              <a:rPr b="1" i="1" lang="en-US" sz="4100" spc="-1" strike="noStrike" u="sng">
                <a:solidFill>
                  <a:srgbClr val="ffffff"/>
                </a:solidFill>
                <a:uFillTx/>
                <a:latin typeface="Impact"/>
              </a:rPr>
              <a:t>Политический   дебют :</a:t>
            </a:r>
            <a:br>
              <a:rPr sz="4100"/>
            </a:b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85840" y="856800"/>
            <a:ext cx="85723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13 г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был назначен заместителем военно - морского министра флота СШ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20 г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узвельт был выдвинут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кандидатом на пост вице-президента СШ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выборов Рузвельт занял пост вице-президента одной из крупных финансовых корпораций Нью-Йор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F:\Рузвельт\beeee3b178216a3aa2d3481564ff63a0.jpg"/>
          <p:cNvPicPr/>
          <p:nvPr/>
        </p:nvPicPr>
        <p:blipFill>
          <a:blip r:embed="rId1"/>
          <a:stretch/>
        </p:blipFill>
        <p:spPr>
          <a:xfrm>
            <a:off x="835200" y="2981160"/>
            <a:ext cx="1908000" cy="2608560"/>
          </a:xfrm>
          <a:prstGeom prst="rect">
            <a:avLst/>
          </a:prstGeom>
          <a:ln w="0">
            <a:noFill/>
          </a:ln>
        </p:spPr>
      </p:pic>
      <p:sp>
        <p:nvSpPr>
          <p:cNvPr id="264" name="Стрелка вниз 5"/>
          <p:cNvSpPr/>
          <p:nvPr/>
        </p:nvSpPr>
        <p:spPr>
          <a:xfrm>
            <a:off x="357120" y="1357200"/>
            <a:ext cx="357120" cy="71460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Стрелка вниз 6"/>
          <p:cNvSpPr/>
          <p:nvPr/>
        </p:nvSpPr>
        <p:spPr>
          <a:xfrm>
            <a:off x="357120" y="2357280"/>
            <a:ext cx="357120" cy="71460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Овальная выноска 7"/>
          <p:cNvSpPr/>
          <p:nvPr/>
        </p:nvSpPr>
        <p:spPr>
          <a:xfrm>
            <a:off x="3143160" y="3071880"/>
            <a:ext cx="5429520" cy="2214360"/>
          </a:xfrm>
          <a:prstGeom prst="wedgeEllipseCallout">
            <a:avLst>
              <a:gd name="adj1" fmla="val -32370"/>
              <a:gd name="adj2" fmla="val 6512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Мы против влияния денег на политику, мы против контроля частных лиц над финансами государства, мы против обращения с человеком как с товаром, мы против голодной заработной платы, мы против власти групп и клик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Стрелка вниз 8"/>
          <p:cNvSpPr/>
          <p:nvPr/>
        </p:nvSpPr>
        <p:spPr>
          <a:xfrm>
            <a:off x="285840" y="550080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286840" cy="122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i="1" lang="en-US" sz="4100" spc="-1" strike="noStrike" u="sng">
                <a:solidFill>
                  <a:srgbClr val="ffffff"/>
                </a:solidFill>
                <a:uFillTx/>
                <a:latin typeface="Impact"/>
              </a:rPr>
              <a:t>Болезнь  и  возвращение  к политической   деятельности :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14200" y="1600200"/>
            <a:ext cx="8429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Загнутый угол 4"/>
          <p:cNvGrpSpPr/>
          <p:nvPr/>
        </p:nvGrpSpPr>
        <p:grpSpPr>
          <a:xfrm>
            <a:off x="274680" y="1841400"/>
            <a:ext cx="2523960" cy="2529000"/>
            <a:chOff x="274680" y="1841400"/>
            <a:chExt cx="2523960" cy="2529000"/>
          </a:xfrm>
        </p:grpSpPr>
        <p:pic>
          <p:nvPicPr>
            <p:cNvPr id="271" name="Загнутый угол 4" descr=""/>
            <p:cNvPicPr/>
            <p:nvPr/>
          </p:nvPicPr>
          <p:blipFill>
            <a:blip r:embed="rId1"/>
            <a:stretch/>
          </p:blipFill>
          <p:spPr>
            <a:xfrm>
              <a:off x="274680" y="1841400"/>
              <a:ext cx="2523960" cy="25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357120" y="1928880"/>
              <a:ext cx="235764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Август 1921 г. -               отказали ног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диагноз —                     полиомиелит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Загнутый угол 5"/>
          <p:cNvGrpSpPr/>
          <p:nvPr/>
        </p:nvGrpSpPr>
        <p:grpSpPr>
          <a:xfrm>
            <a:off x="5699160" y="1841400"/>
            <a:ext cx="2530440" cy="2565360"/>
            <a:chOff x="5699160" y="1841400"/>
            <a:chExt cx="2530440" cy="2565360"/>
          </a:xfrm>
        </p:grpSpPr>
        <p:pic>
          <p:nvPicPr>
            <p:cNvPr id="274" name="Загнутый угол 5" descr=""/>
            <p:cNvPicPr/>
            <p:nvPr/>
          </p:nvPicPr>
          <p:blipFill>
            <a:blip r:embed="rId2"/>
            <a:stretch/>
          </p:blipFill>
          <p:spPr>
            <a:xfrm>
              <a:off x="5699160" y="1841400"/>
              <a:ext cx="253044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786280" y="1928880"/>
              <a:ext cx="235764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1928 г. - Рузвельт победил на выборах (Губернатор США) с небольшим перевесом в 25 тысяч голосов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Загнутый угол 6"/>
          <p:cNvGrpSpPr/>
          <p:nvPr/>
        </p:nvGrpSpPr>
        <p:grpSpPr>
          <a:xfrm>
            <a:off x="5699160" y="1841400"/>
            <a:ext cx="2530440" cy="2565360"/>
            <a:chOff x="5699160" y="1841400"/>
            <a:chExt cx="2530440" cy="2565360"/>
          </a:xfrm>
        </p:grpSpPr>
        <p:pic>
          <p:nvPicPr>
            <p:cNvPr id="277" name="Загнутый угол 6" descr=""/>
            <p:cNvPicPr/>
            <p:nvPr/>
          </p:nvPicPr>
          <p:blipFill>
            <a:blip r:embed="rId3"/>
            <a:stretch/>
          </p:blipFill>
          <p:spPr>
            <a:xfrm>
              <a:off x="5699160" y="1841400"/>
              <a:ext cx="253044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786280" y="1928880"/>
              <a:ext cx="235764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1930 г. - избирается губернатором штата Нью-Йорк на второй срок с преимуществом — в 725 тысяч голосов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Загнутый угол 8"/>
          <p:cNvGrpSpPr/>
          <p:nvPr/>
        </p:nvGrpSpPr>
        <p:grpSpPr>
          <a:xfrm>
            <a:off x="5699160" y="1841400"/>
            <a:ext cx="2530440" cy="2602080"/>
            <a:chOff x="5699160" y="1841400"/>
            <a:chExt cx="2530440" cy="2602080"/>
          </a:xfrm>
        </p:grpSpPr>
        <p:pic>
          <p:nvPicPr>
            <p:cNvPr id="280" name="Загнутый угол 8" descr=""/>
            <p:cNvPicPr/>
            <p:nvPr/>
          </p:nvPicPr>
          <p:blipFill>
            <a:blip r:embed="rId4"/>
            <a:stretch/>
          </p:blipFill>
          <p:spPr>
            <a:xfrm>
              <a:off x="5699160" y="1841400"/>
              <a:ext cx="2530440" cy="26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786280" y="1928880"/>
              <a:ext cx="2357640" cy="20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1933 г. – Рузвельт стал 32 президентом США.За него проголосовали — 22,8 млн. человек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Загнутый угол 7"/>
          <p:cNvGrpSpPr/>
          <p:nvPr/>
        </p:nvGrpSpPr>
        <p:grpSpPr>
          <a:xfrm>
            <a:off x="274680" y="1841400"/>
            <a:ext cx="2523960" cy="2529000"/>
            <a:chOff x="274680" y="1841400"/>
            <a:chExt cx="2523960" cy="2529000"/>
          </a:xfrm>
        </p:grpSpPr>
        <p:pic>
          <p:nvPicPr>
            <p:cNvPr id="283" name="Загнутый угол 7" descr=""/>
            <p:cNvPicPr/>
            <p:nvPr/>
          </p:nvPicPr>
          <p:blipFill>
            <a:blip r:embed="rId5"/>
            <a:stretch/>
          </p:blipFill>
          <p:spPr>
            <a:xfrm>
              <a:off x="274680" y="1841400"/>
              <a:ext cx="2523960" cy="25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57120" y="1928880"/>
              <a:ext cx="235764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Обменная гипертоническая энцефалопат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Загнутый угол 9"/>
          <p:cNvGrpSpPr/>
          <p:nvPr/>
        </p:nvGrpSpPr>
        <p:grpSpPr>
          <a:xfrm>
            <a:off x="274680" y="1841400"/>
            <a:ext cx="2523960" cy="2529000"/>
            <a:chOff x="274680" y="1841400"/>
            <a:chExt cx="2523960" cy="2529000"/>
          </a:xfrm>
        </p:grpSpPr>
        <p:pic>
          <p:nvPicPr>
            <p:cNvPr id="286" name="Загнутый угол 9" descr=""/>
            <p:cNvPicPr/>
            <p:nvPr/>
          </p:nvPicPr>
          <p:blipFill>
            <a:blip r:embed="rId6"/>
            <a:stretch/>
          </p:blipFill>
          <p:spPr>
            <a:xfrm>
              <a:off x="274680" y="1841400"/>
              <a:ext cx="2523960" cy="25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57120" y="1928880"/>
              <a:ext cx="235764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Застойная сердечная недостаточ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Загнутый угол 11"/>
          <p:cNvGrpSpPr/>
          <p:nvPr/>
        </p:nvGrpSpPr>
        <p:grpSpPr>
          <a:xfrm>
            <a:off x="274680" y="1841400"/>
            <a:ext cx="2523960" cy="2529000"/>
            <a:chOff x="274680" y="1841400"/>
            <a:chExt cx="2523960" cy="2529000"/>
          </a:xfrm>
        </p:grpSpPr>
        <p:pic>
          <p:nvPicPr>
            <p:cNvPr id="289" name="Загнутый угол 11" descr=""/>
            <p:cNvPicPr/>
            <p:nvPr/>
          </p:nvPicPr>
          <p:blipFill>
            <a:blip r:embed="rId7"/>
            <a:stretch/>
          </p:blipFill>
          <p:spPr>
            <a:xfrm>
              <a:off x="274680" y="1841400"/>
              <a:ext cx="2523960" cy="25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57120" y="1928880"/>
              <a:ext cx="235764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Хроническая артериальная гипертенз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Загнутый угол 12"/>
          <p:cNvGrpSpPr/>
          <p:nvPr/>
        </p:nvGrpSpPr>
        <p:grpSpPr>
          <a:xfrm>
            <a:off x="5699160" y="1841400"/>
            <a:ext cx="2530440" cy="2602080"/>
            <a:chOff x="5699160" y="1841400"/>
            <a:chExt cx="2530440" cy="2602080"/>
          </a:xfrm>
        </p:grpSpPr>
        <p:pic>
          <p:nvPicPr>
            <p:cNvPr id="292" name="Загнутый угол 12" descr=""/>
            <p:cNvPicPr/>
            <p:nvPr/>
          </p:nvPicPr>
          <p:blipFill>
            <a:blip r:embed="rId8"/>
            <a:stretch/>
          </p:blipFill>
          <p:spPr>
            <a:xfrm>
              <a:off x="5699160" y="1841400"/>
              <a:ext cx="2530440" cy="26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5786280" y="1928880"/>
              <a:ext cx="2357640" cy="20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1936 год — снова президентские выборы : «За» — 27.452.309 голосов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Загнутый угол 13"/>
          <p:cNvGrpSpPr/>
          <p:nvPr/>
        </p:nvGrpSpPr>
        <p:grpSpPr>
          <a:xfrm>
            <a:off x="5699160" y="1841400"/>
            <a:ext cx="2530440" cy="2602080"/>
            <a:chOff x="5699160" y="1841400"/>
            <a:chExt cx="2530440" cy="2602080"/>
          </a:xfrm>
        </p:grpSpPr>
        <p:pic>
          <p:nvPicPr>
            <p:cNvPr id="295" name="Загнутый угол 13" descr=""/>
            <p:cNvPicPr/>
            <p:nvPr/>
          </p:nvPicPr>
          <p:blipFill>
            <a:blip r:embed="rId9"/>
            <a:stretch/>
          </p:blipFill>
          <p:spPr>
            <a:xfrm>
              <a:off x="5699160" y="1841400"/>
              <a:ext cx="2530440" cy="26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786280" y="1928880"/>
              <a:ext cx="2357640" cy="20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1940 год -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Рузвельт решил не выдвигать свою кандидатуру на третий срок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Скругленная прямоугольная выноска 14"/>
          <p:cNvGrpSpPr/>
          <p:nvPr/>
        </p:nvGrpSpPr>
        <p:grpSpPr>
          <a:xfrm>
            <a:off x="3846600" y="4303800"/>
            <a:ext cx="2670120" cy="2000160"/>
            <a:chOff x="3846600" y="4303800"/>
            <a:chExt cx="2670120" cy="2000160"/>
          </a:xfrm>
        </p:grpSpPr>
        <p:pic>
          <p:nvPicPr>
            <p:cNvPr id="298" name="Скругленная прямоугольная выноска 14" descr=""/>
            <p:cNvPicPr/>
            <p:nvPr/>
          </p:nvPicPr>
          <p:blipFill>
            <a:blip r:embed="rId10"/>
            <a:stretch/>
          </p:blipFill>
          <p:spPr>
            <a:xfrm>
              <a:off x="3846600" y="4303800"/>
              <a:ext cx="267012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995640" y="4924440"/>
              <a:ext cx="2367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«Америка хочет Рузвельта», «Все за Рузвельта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Загнутый угол 15"/>
          <p:cNvGrpSpPr/>
          <p:nvPr/>
        </p:nvGrpSpPr>
        <p:grpSpPr>
          <a:xfrm>
            <a:off x="5699160" y="1841400"/>
            <a:ext cx="2530440" cy="2602080"/>
            <a:chOff x="5699160" y="1841400"/>
            <a:chExt cx="2530440" cy="2602080"/>
          </a:xfrm>
        </p:grpSpPr>
        <p:pic>
          <p:nvPicPr>
            <p:cNvPr id="301" name="Загнутый угол 15" descr=""/>
            <p:cNvPicPr/>
            <p:nvPr/>
          </p:nvPicPr>
          <p:blipFill>
            <a:blip r:embed="rId11"/>
            <a:stretch/>
          </p:blipFill>
          <p:spPr>
            <a:xfrm>
              <a:off x="5699160" y="1841400"/>
              <a:ext cx="2530440" cy="26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5786280" y="1928880"/>
              <a:ext cx="2357640" cy="20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Впервые в истории США Рузвельт третий раз подряд стал президентом США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Загнутый угол 16"/>
          <p:cNvGrpSpPr/>
          <p:nvPr/>
        </p:nvGrpSpPr>
        <p:grpSpPr>
          <a:xfrm>
            <a:off x="5699160" y="1841400"/>
            <a:ext cx="2603520" cy="2675160"/>
            <a:chOff x="5699160" y="1841400"/>
            <a:chExt cx="2603520" cy="2675160"/>
          </a:xfrm>
        </p:grpSpPr>
        <p:pic>
          <p:nvPicPr>
            <p:cNvPr id="304" name="Загнутый угол 16" descr=""/>
            <p:cNvPicPr/>
            <p:nvPr/>
          </p:nvPicPr>
          <p:blipFill>
            <a:blip r:embed="rId12"/>
            <a:stretch/>
          </p:blipFill>
          <p:spPr>
            <a:xfrm>
              <a:off x="5699160" y="1841400"/>
              <a:ext cx="2603520" cy="267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5786280" y="1928880"/>
              <a:ext cx="2428920" cy="20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1944 год Рузвельт дал согласие баллотироваться на пост президента на четвертый срок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1320" y="-214560"/>
            <a:ext cx="8329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4600" spc="-1" strike="noStrike" u="sng">
                <a:solidFill>
                  <a:srgbClr val="ffffff"/>
                </a:solidFill>
                <a:uFillTx/>
                <a:latin typeface="Impact"/>
              </a:rPr>
              <a:t>РУЗВЕЛЬТ</a:t>
            </a:r>
            <a:r>
              <a:rPr b="1" lang="ru-RU" sz="4600" spc="-1" strike="noStrike">
                <a:solidFill>
                  <a:srgbClr val="ffffff"/>
                </a:solidFill>
                <a:latin typeface="Impact"/>
              </a:rPr>
              <a:t>              </a:t>
            </a:r>
            <a:r>
              <a:rPr b="1" lang="en-US" sz="4600" spc="-1" strike="noStrike">
                <a:solidFill>
                  <a:srgbClr val="ffffff"/>
                </a:solidFill>
                <a:latin typeface="Impact"/>
              </a:rPr>
              <a:t>VS.</a:t>
            </a:r>
            <a:r>
              <a:rPr b="1" lang="ru-RU" sz="4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en-US" sz="4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ru-RU" sz="46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1" lang="ru-RU" sz="4600" spc="-1" strike="noStrike" u="sng">
                <a:solidFill>
                  <a:srgbClr val="ffffff"/>
                </a:solidFill>
                <a:uFillTx/>
                <a:latin typeface="Impact"/>
              </a:rPr>
              <a:t>ГУВЕР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7" name="Picture 2" descr="H:\Рузвельт\beeee3b178216a3aa2d3481564ff63a0.jpg"/>
          <p:cNvPicPr/>
          <p:nvPr/>
        </p:nvPicPr>
        <p:blipFill>
          <a:blip r:embed="rId1"/>
          <a:stretch/>
        </p:blipFill>
        <p:spPr>
          <a:xfrm>
            <a:off x="1298520" y="639720"/>
            <a:ext cx="2133720" cy="2768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H:\Рузвельт\CHerbert_Hoover.jpg"/>
          <p:cNvPicPr/>
          <p:nvPr/>
        </p:nvPicPr>
        <p:blipFill>
          <a:blip r:embed="rId2"/>
          <a:stretch/>
        </p:blipFill>
        <p:spPr>
          <a:xfrm>
            <a:off x="5589720" y="639720"/>
            <a:ext cx="2201760" cy="276876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8"/>
          <p:cNvSpPr/>
          <p:nvPr/>
        </p:nvSpPr>
        <p:spPr>
          <a:xfrm>
            <a:off x="4786200" y="3286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«Черный четверг» — 24 октября 1929 года. Паника на фондовой бирже. Потери от падения курса акций составили более 10 млрд. долла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9"/>
          <p:cNvSpPr/>
          <p:nvPr/>
        </p:nvSpPr>
        <p:spPr>
          <a:xfrm>
            <a:off x="4786200" y="4643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мышленное производство к 1932 году составило всего 50 процентов от уровня 1929 г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илился рост безработицы: 3 процента — в 1929 году; 9 процентов — в 1930 году; 25 процентов (более 12 млн. человек) — в 1933 г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0"/>
          <p:cNvSpPr/>
          <p:nvPr/>
        </p:nvSpPr>
        <p:spPr>
          <a:xfrm>
            <a:off x="0" y="316404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ля многих американцев и политических деятелей демократической партии было ясно: Ф. Д. Рузвельт — лучший кандидат на пост президента СШ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влекал и его предвыборный лозунг: «Новый кур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ногие элементы «Нового курса» возникали как ответы на вызовы времени, другие носили экспериментальный характер, проходили проверку на практи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5520" y="-2145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Impact"/>
              </a:rPr>
              <a:t>Рузвельт ,   как  личность  .  .  . 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3" name="Содержимое 7" descr=""/>
          <p:cNvPicPr/>
          <p:nvPr/>
        </p:nvPicPr>
        <p:blipFill>
          <a:blip r:embed="rId1"/>
          <a:stretch/>
        </p:blipFill>
        <p:spPr>
          <a:xfrm>
            <a:off x="281160" y="706320"/>
            <a:ext cx="872964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77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770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8:31:14Z</dcterms:created>
  <dc:creator>Admin</dc:creator>
  <dc:description/>
  <dc:language>en-US</dc:language>
  <cp:lastModifiedBy>Root</cp:lastModifiedBy>
  <dcterms:modified xsi:type="dcterms:W3CDTF">2009-11-26T21:40:54Z</dcterms:modified>
  <cp:revision>31</cp:revision>
  <dc:subject/>
  <dc:title>Франклин делано рузвельт 30 января 1882 -</dc:title>
</cp:coreProperties>
</file>